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3DEB-2270-462C-A7A6-D7E1CCA542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0EFD-CD47-4B15-846D-6163C27D1E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7189-9CE5-4981-A87B-18ACE75096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8F83-F75C-4AB2-A851-84BDE76583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3C3-C857-4AF7-B966-5A999346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9B5-5F81-4BB7-A0EA-3D7E756B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554-41CF-4D26-9E98-3BE03139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4CBD-B5E0-4B0F-A1FE-7AF40E2E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7049-B2F5-4187-B2BF-2C95F6EC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9690-2616-445B-8AE9-AFDB3DAE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09FD-187E-4ACF-8256-BCC4A6B7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D5C0-4F71-4582-A989-FAB15AE0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7E0F-5AC8-4EFA-9A06-C4731690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AFC1-A362-4DC8-9845-D8422834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F9CA-0BE6-4868-BDA7-8E4321E0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45E-1189-4556-A6C6-2E0975DF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55AB-350C-4E43-B666-52D69380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D2AE-51F0-46A6-B785-B9F1FF02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4F6A-C21B-453F-9EA5-B819A955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870C-F1F0-48AC-983D-C03B00FB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BABC-08E9-4CF0-8DF7-1E85ACB2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0A5FE-2E6F-45E6-84A4-F3CDA019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1770C-AF8C-45CC-BD3E-ABD0B82A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BEE70-BFEE-41A6-8363-CF3E1841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B0C65-8CFC-4C6D-9876-DACB7537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8686A-79C1-4701-A1E8-C2DA3A46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1F1-4D7D-4F5A-9355-01347ECD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A664-4FB5-4228-AD60-10187CA9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C5C1A-F9BF-4327-8CFB-AA46B500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B8BC3-28C3-4FFD-8B06-57765679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2D6DB-7CB8-4021-B32A-FFD7DB3E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E688D-3604-491E-AB94-2700A365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3D525-8EBA-478A-9B10-DA6CA4FF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7F443-B55B-422A-BD1E-F23038BD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6F1C8-F746-4D1E-A6CC-AC75FBE0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0901E-96E2-4FC7-99E1-20EBCBD7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71241-BE55-48DB-BBFD-86A3B61A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109-1C49-4AE0-BAD9-1BC401D2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A3A45-CBBC-4487-9F4A-E7AB5F1A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7F7B7-8144-412E-A76F-0A9E03A2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A0BFE-38BF-4D1D-B246-8621F792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28988-3F1A-48E5-B28F-0B9D54B9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3E480-3889-4859-8762-7C6004C4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9276F-4732-4B6D-921D-8D529F75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5779C-8870-4B41-BDE5-F8B8DC75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9F412-C252-4F6B-90F5-683F1180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51779-14EE-49FB-B8AE-B8BA5FE2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C0745-4985-4E44-9E2E-8673BDE9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AE9-56BB-4D4C-8B74-3C93E66D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70EBD-8C36-469B-9AA9-69F2F8AD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A2DCF-0FDD-4A09-BC45-F55AF231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75F59-0FE5-451A-9753-287219B1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8B293-D9AB-4FF0-8C92-0F6D2C77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1BD6F-0409-432C-B6D9-172D512C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DE793-FDE4-4F22-862B-98E8F2E4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777AF-80EA-4E5F-A30F-7B635F65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209AB-D4F7-43C4-AB8B-AA4BD4FA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E9ECA-0BDD-479B-ADFF-6F14BA72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C962D-9F86-4F79-91B4-C8D23F52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AB19-981B-4F7F-981E-79603731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1917A-C40D-4B07-B194-D823E417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680C7-73B7-481D-AECA-E10F1C09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523BE-0ECB-413C-AA8F-8CBC89CE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ACD82-2734-4373-B650-5F2DEE5E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1A46B-59EC-4F91-B5BD-A1F1B6F1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185C7-8D38-4BBB-B53D-E813B4D4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A2820-751E-47DD-BD72-20DFB473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017CE-5D8C-487F-A1BD-F1BAFD1E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FE8F7-0A5B-45D4-A797-6F5A0635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5AD7B-E258-49CF-AD39-BF72B1B5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554-0115-40AA-87DB-C268422D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6AE22-D012-4FB7-A5E9-3D7889C1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6815F-BFF7-4889-BE21-73101989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D6005-CF30-4477-A582-64C34F1A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3D64B-8E79-456B-97FE-D5464D2B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815A0-40AE-49F2-A0A5-D3B7602D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4480F-DC7A-45A9-9372-7A4BF50A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DECCD-0EE7-4EA9-82F3-812D77B0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4279B-58DF-40B3-89DB-EAFC5440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21945-FE61-4F60-9D47-595D0848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99901-6301-4776-975F-C7150048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5FE-5640-44F1-B2FE-DC112CF9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A05C1-B446-454F-BE0F-CDEE15FE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95211-13C0-4C3A-84DE-BDF19E42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12DF6-2596-42CB-B238-C2FE85C3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FBCDE-3DC7-41D5-BBE8-1936832D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6B95C-82FF-49C6-A857-1D6512AD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9124E-490C-491E-B098-98BAE347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EB769-81ED-4BBC-BC56-F5CAB0EE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32AE8-25C2-4B63-91AB-60327EE3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ED4D1-23F3-4831-969F-E0DB375D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208DD-C850-4842-8046-350B12B2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E108-BC2B-48E6-8433-CCBBF647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ABEC4-1D93-46C6-A815-8C9AA1B6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A7BDE-F5C9-4A08-A7EE-B9FD8760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3E34D-FFA4-472E-993B-6EC8042D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5D6B9-8BAD-4A80-B40B-2F0F8415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65154-D5E8-472E-A656-274E3C86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07D96-DABB-42C8-B37B-9BE6D6AA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3CF39-C935-439E-A88C-40FE80BA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E910-D1A8-4C6B-BF75-F4576490B75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844F-FC7B-4394-8FA2-0D2AA38BBD1E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9218-DFF9-4496-8169-F94731E4774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89B0-3346-4F25-A4A6-FDC751FC449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2370-54BA-47F9-98E8-B292A9A9C33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B7E3-84E0-4434-A826-FB5E7D89C2D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0CD1-1B79-44C8-89BF-3AB5F6C4A22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BB8D-A3C7-4ECB-AAA5-38D0C77B9F6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99FE-7B25-45D8-92F4-5E9C64BD75F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6664-9C8E-4A53-BFEE-081ED2B34FA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0F3E-71B4-48DB-A337-94F08C88448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3198-2034-4E80-A819-0C81C51799C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F512-185F-43B3-A6E9-2CB9B76BCC5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6C4F-B887-47DD-8B62-1478D71DF48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172D-D3C0-4B01-89DA-F40F3B1C2F2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341E-E6F8-4612-8305-F10B0B95542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e procédures relevant de la santé et la sécurité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oduire des supports associés aux procédures santé - sécurité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place d’activités sociales et culturel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en œuvre des actions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15F6-5EDC-42E5-968B-BE34B033195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580000" y="4941720"/>
            <a:ext cx="356400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NIVEAU DE PRISE EN COMPTE DE LA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767640" y="234936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outon d'action : Personnalisé 7"/>
          <p:cNvSpPr/>
          <p:nvPr/>
        </p:nvSpPr>
        <p:spPr>
          <a:xfrm>
            <a:off x="8317080" y="3789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outon d'action : Personnalisé 8"/>
          <p:cNvSpPr/>
          <p:nvPr/>
        </p:nvSpPr>
        <p:spPr>
          <a:xfrm>
            <a:off x="8388360" y="1773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9CEE-33A8-4BE5-B15C-F3B1ABC34C1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533880" y="884160"/>
            <a:ext cx="752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1. Gestion administrative courante du personne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Tenue et suivi des dossiers sala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1268280"/>
          <a:ext cx="8207280" cy="44643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75040"/>
              </a:tblGrid>
              <a:tr h="203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documentation juridique et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réglement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traits de conventions et accords collecti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èles de décla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ul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ertificats, des attes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signes de tenue des dossiers dans l’ent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u personn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gistre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n matière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gestion opérationnelle du suivi de dossier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Gestion Électronique des Don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classement et d’archiv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égislation du travail adaptée au secteur,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nche, statut, mé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ux types de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es de rupture du contrat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alités légales et administratives liées à l’embauche, au suivi et au départ du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bligations relatives à la médecine du travail et aux organismes soci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t procédures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enants aux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sions tempor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availleurs étrangers 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élé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gés spécif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mplois protég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ident du trava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cès d’un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 contrôle administr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 inexa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ossier déclass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ert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ossiers des personnels sont mis à jour et les formalités administratives sont réalisées dans le respect de la législation du trava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iser des dossiers de personnel dans le respect de la législation du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abilité et exhaustivité des dossiers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Bouton d'action : Document 7"/>
          <p:cNvSpPr/>
          <p:nvPr/>
        </p:nvSpPr>
        <p:spPr>
          <a:xfrm>
            <a:off x="781200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07" h="21600">
                <a:moveTo>
                  <a:pt x="7977" y="3985"/>
                </a:moveTo>
                <a:lnTo>
                  <a:pt x="14974" y="3985"/>
                </a:lnTo>
                <a:lnTo>
                  <a:pt x="19030" y="7484"/>
                </a:lnTo>
                <a:lnTo>
                  <a:pt x="19030" y="17615"/>
                </a:lnTo>
                <a:lnTo>
                  <a:pt x="7977" y="17615"/>
                </a:lnTo>
                <a:close/>
              </a:path>
              <a:path fill="darken" w="27007" h="21600">
                <a:moveTo>
                  <a:pt x="14974" y="3985"/>
                </a:moveTo>
                <a:lnTo>
                  <a:pt x="19030" y="7484"/>
                </a:lnTo>
                <a:lnTo>
                  <a:pt x="14974" y="7484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</a:t>
            </a:r>
            <a:r>
              <a:rPr b="0" lang="fr-FR" sz="3200" spc="-1" strike="noStrike">
                <a:solidFill>
                  <a:srgbClr val="00b0f0"/>
                </a:solidFill>
                <a:latin typeface="Franklin Gothic Medium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57A2-B2B6-4C1A-BAE5-79C5AF984B3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60120" y="764280"/>
            <a:ext cx="919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2. Gestion administrative des ressources humaines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Participation à la mise en œuvre d’un programme d’accu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197000"/>
          <a:ext cx="8712000" cy="5083200"/>
        </p:xfrm>
        <a:graphic>
          <a:graphicData uri="http://schemas.openxmlformats.org/drawingml/2006/table">
            <a:tbl>
              <a:tblPr/>
              <a:tblGrid>
                <a:gridCol w="2307960"/>
                <a:gridCol w="3426120"/>
                <a:gridCol w="2977920"/>
              </a:tblGrid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6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documentation juridique et sociale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état des entr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harte graph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intégration du personnel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rocédures d’accueil des salariés ou stagi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ispositifs d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utils de suivi des procédure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cuments compos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image de l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hésion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ul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structuration du document : titres, inter ti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mise en page du document : textes, images, schémas, cartes, plans, énumé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infinitif, présent de l'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formulation de consignes et conse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métier de l'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tualisation d’un document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ersité des profils salariés accueil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e visite de loc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ivi et bilan d’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s manquantes ou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stions non traitées dans 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ituation non prévue dans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mise en œuvre du programme d’accueil respecte les consignes données en matière d’intégration du personn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quer 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consignes d’intégration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3" name="Bouton d'action : Document 6"/>
          <p:cNvSpPr/>
          <p:nvPr/>
        </p:nvSpPr>
        <p:spPr>
          <a:xfrm>
            <a:off x="8136000" y="508464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3"/>
                </a:moveTo>
                <a:lnTo>
                  <a:pt x="12271" y="3993"/>
                </a:lnTo>
                <a:lnTo>
                  <a:pt x="16327" y="7492"/>
                </a:lnTo>
                <a:lnTo>
                  <a:pt x="16327" y="17623"/>
                </a:lnTo>
                <a:lnTo>
                  <a:pt x="5273" y="17623"/>
                </a:lnTo>
                <a:close/>
              </a:path>
              <a:path fill="darken" w="21600" h="21615">
                <a:moveTo>
                  <a:pt x="12271" y="3993"/>
                </a:moveTo>
                <a:lnTo>
                  <a:pt x="16327" y="7492"/>
                </a:lnTo>
                <a:lnTo>
                  <a:pt x="12271" y="7492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6560" y="1267920"/>
            <a:ext cx="81374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liées à la taille et la structure de l'organisation, parfois rencontrées lors de PFMP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à fort potentiel de développement installées dans un cadre juridique robuste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onc, une évaluation en étude de cas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B994-32A7-42E3-9CFF-E5D85C8E02C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2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Gestion administrativ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gestionnaire administratif assure les activités nécessaires au bon déroulement de la gestion administrative des relations avec les salarié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courantes de gestion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du personnel pour tout type de contrat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ponctuell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relatives aux mouvements de personnel, à leur carrière et à leur formation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uivi administratif financier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(préparation de la paie, budgets, indicateurs)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gestion administrative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relations sociales 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ACA1-83B8-48D4-B8F2-87ED19A1B16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42920" y="4419000"/>
            <a:ext cx="7274160" cy="131364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  des délais et des consi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de la législation en vigueur et des règles et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427640" y="2637000"/>
            <a:ext cx="3529080" cy="72072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26920" y="1197000"/>
            <a:ext cx="7521840" cy="38750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Tenue et suivi des dossiers des salariés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ctualiser des dossiers de personnel dans le respect de la législation du travail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Gestion administrative des temps de trava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écompter et planifier le temps de travai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EB88-3DDD-4E24-A30C-59CFF3F9D55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6767640" y="2637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FIABILITE &amp; EXHAUSTI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9700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s déplacement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éparer et contrôler des déplacemen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Transmission d’informations à destination du personnel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récier la nature et le degré de confidentialité de l’information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98C5-07FD-4176-B4C6-A29C59DBF35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767640" y="4797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DE L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767640" y="2060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FFICACITE DU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Bouton d'action : Personnalisé 7"/>
          <p:cNvSpPr/>
          <p:nvPr/>
        </p:nvSpPr>
        <p:spPr>
          <a:xfrm>
            <a:off x="8388360" y="3500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6520" y="4762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au recrutement du personnel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aux étapes d’un recrutement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'un programme d'accue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ppliquer un programme d’accueil 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C9B6-5599-485B-BD8A-4B6AC7B7902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DE CONS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ET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outon d'action : Personnalisé 7"/>
          <p:cNvSpPr/>
          <p:nvPr/>
        </p:nvSpPr>
        <p:spPr>
          <a:xfrm>
            <a:off x="8388360" y="1916280"/>
            <a:ext cx="792000" cy="43308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486" h="21600">
                <a:moveTo>
                  <a:pt x="0" y="0"/>
                </a:moveTo>
                <a:lnTo>
                  <a:pt x="39486" y="0"/>
                </a:lnTo>
                <a:lnTo>
                  <a:pt x="39486" y="21600"/>
                </a:lnTo>
                <a:lnTo>
                  <a:pt x="0" y="21600"/>
                </a:lnTo>
                <a:close/>
              </a:path>
              <a:path fill="lightenLess" w="39486" h="21600">
                <a:moveTo>
                  <a:pt x="0" y="0"/>
                </a:moveTo>
                <a:lnTo>
                  <a:pt x="39486" y="0"/>
                </a:lnTo>
                <a:lnTo>
                  <a:pt x="38086" y="1400"/>
                </a:lnTo>
                <a:lnTo>
                  <a:pt x="1400" y="1400"/>
                </a:lnTo>
                <a:close/>
              </a:path>
              <a:path fill="darken" w="39486" h="21600">
                <a:moveTo>
                  <a:pt x="39486" y="0"/>
                </a:moveTo>
                <a:lnTo>
                  <a:pt x="39486" y="21600"/>
                </a:lnTo>
                <a:lnTo>
                  <a:pt x="38086" y="20200"/>
                </a:lnTo>
                <a:lnTo>
                  <a:pt x="38086" y="1400"/>
                </a:lnTo>
                <a:close/>
              </a:path>
              <a:path fill="darkenLess" w="39486" h="21600">
                <a:moveTo>
                  <a:pt x="39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86" y="20200"/>
                </a:lnTo>
                <a:close/>
              </a:path>
              <a:path fill="lighten" w="39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outon d'action : Personnalisé 8"/>
          <p:cNvSpPr/>
          <p:nvPr/>
        </p:nvSpPr>
        <p:spPr>
          <a:xfrm>
            <a:off x="8388360" y="3645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699920"/>
            <a:ext cx="7521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carrièr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liquer à chaque cas traité les règles spécifiques de suivi de carriè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 la formation du personnel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à la form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B34C-FB00-4E42-9A70-7B7A6B80282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767640" y="5157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&amp;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67640" y="3068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&amp; PERTIN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3. Gestion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administrativ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rémunération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budget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360" y="1700280"/>
            <a:ext cx="7519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bulletins de salaire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et contrôler la vraisemblance des états préparatoires aux bulletins de salai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déclarations soci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des états préparatoires aux déclarations social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préparation et au suivi budgétaire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un état budgétaire et signaler les écar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858D-812B-45DC-9633-31999C2F9B7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767640" y="5589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767640" y="4653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2240" y="1700280"/>
            <a:ext cx="7521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obligations liées aux instances représentative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Organiser des élections et des consultations d’instances représentativ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tableaux de bord, des indicateurs sociaux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des indicateurs sociaux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5D1C-F2A6-4329-9A8E-F3DDEF5CBC8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767640" y="508464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767640" y="3573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1T21:15:07Z</dcterms:modified>
  <cp:revision>80</cp:revision>
  <dc:subject/>
  <dc:title>Baccalauréat professionnel Gestion -- Administration</dc:title>
</cp:coreProperties>
</file>